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8072280" y="573408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4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ounded Rectangle 6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Rounded Rectangle 7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ounded Rectangle 24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9" name="Rounded Rectangle 23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9000" y="1137600"/>
            <a:ext cx="7866000" cy="1388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To be able to use ‘ed’ to change words into the past tense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3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add ‘ed’ to a word to change it to past tense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find words that need ‘ed’ on the end to make them past tense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: Rounded Corners 3"/>
          <p:cNvSpPr/>
          <p:nvPr/>
        </p:nvSpPr>
        <p:spPr>
          <a:xfrm>
            <a:off x="4094280" y="3137040"/>
            <a:ext cx="3228840" cy="1519200"/>
          </a:xfrm>
          <a:prstGeom prst="roundRect">
            <a:avLst>
              <a:gd name="adj" fmla="val 16667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88760" y="798120"/>
            <a:ext cx="7566480" cy="11167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When we write in the past tense, we add ‘</a:t>
            </a:r>
            <a:r>
              <a:rPr b="1" lang="en-GB" sz="2800" spc="-1" strike="noStrike">
                <a:solidFill>
                  <a:srgbClr val="5b8231"/>
                </a:solidFill>
                <a:latin typeface="Twinkl SemiBold"/>
              </a:rPr>
              <a:t>ed</a:t>
            </a: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’ to most verbs. 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rcRect l="0" t="0" r="0" b="23547"/>
          <a:stretch/>
        </p:blipFill>
        <p:spPr>
          <a:xfrm>
            <a:off x="673200" y="1870200"/>
            <a:ext cx="3535200" cy="4538520"/>
          </a:xfrm>
          <a:prstGeom prst="rect">
            <a:avLst/>
          </a:prstGeom>
          <a:ln w="0">
            <a:noFill/>
          </a:ln>
        </p:spPr>
      </p:pic>
      <p:sp>
        <p:nvSpPr>
          <p:cNvPr id="247" name="Title 20"/>
          <p:cNvSpPr/>
          <p:nvPr/>
        </p:nvSpPr>
        <p:spPr>
          <a:xfrm>
            <a:off x="4110120" y="3286080"/>
            <a:ext cx="3154320" cy="1182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Here is an easy way to help you remember this…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75800" y="1238040"/>
            <a:ext cx="4138920" cy="695520"/>
          </a:xfrm>
          <a:prstGeom prst="rect">
            <a:avLst/>
          </a:prstGeom>
          <a:solidFill>
            <a:srgbClr val="d3edfe"/>
          </a:solidFill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Uncle Ed is very old. 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rcRect l="0" t="0" r="0" b="20675"/>
          <a:stretch/>
        </p:blipFill>
        <p:spPr>
          <a:xfrm>
            <a:off x="4838760" y="673200"/>
            <a:ext cx="4305240" cy="5735520"/>
          </a:xfrm>
          <a:prstGeom prst="rect">
            <a:avLst/>
          </a:prstGeom>
          <a:ln w="0">
            <a:noFill/>
          </a:ln>
        </p:spPr>
      </p:pic>
      <p:sp>
        <p:nvSpPr>
          <p:cNvPr id="250" name="Title 20"/>
          <p:cNvSpPr/>
          <p:nvPr/>
        </p:nvSpPr>
        <p:spPr>
          <a:xfrm>
            <a:off x="755640" y="2206800"/>
            <a:ext cx="4179960" cy="1322280"/>
          </a:xfrm>
          <a:prstGeom prst="roundRect">
            <a:avLst>
              <a:gd name="adj" fmla="val 9639"/>
            </a:avLst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He likes to remember things that happened in the past.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1" name="Title 20"/>
          <p:cNvSpPr/>
          <p:nvPr/>
        </p:nvSpPr>
        <p:spPr>
          <a:xfrm>
            <a:off x="755640" y="3781440"/>
            <a:ext cx="4179960" cy="1763640"/>
          </a:xfrm>
          <a:prstGeom prst="roundRect">
            <a:avLst>
              <a:gd name="adj" fmla="val 9639"/>
            </a:avLst>
          </a:prstGeom>
          <a:solidFill>
            <a:srgbClr val="d3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ith most verbs, we can add Uncle Ed’s name to change the verb to the past tense. 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1"/>
          <a:srcRect l="57" t="0" r="-52" b="31718"/>
          <a:stretch/>
        </p:blipFill>
        <p:spPr>
          <a:xfrm>
            <a:off x="763560" y="2403360"/>
            <a:ext cx="7642080" cy="368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" descr=""/>
          <p:cNvPicPr/>
          <p:nvPr/>
        </p:nvPicPr>
        <p:blipFill>
          <a:blip r:embed="rId2"/>
          <a:srcRect l="0" t="0" r="0" b="16998"/>
          <a:stretch/>
        </p:blipFill>
        <p:spPr>
          <a:xfrm>
            <a:off x="428760" y="1709640"/>
            <a:ext cx="3371760" cy="469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3867120" cy="1374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712800" y="952560"/>
            <a:ext cx="4137120" cy="6955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I walk</a:t>
            </a:r>
            <a:r>
              <a:rPr b="1" lang="en-GB" sz="2800" spc="-1" strike="noStrike">
                <a:solidFill>
                  <a:srgbClr val="5b8231"/>
                </a:solidFill>
                <a:latin typeface="Twinkl SemiBold"/>
              </a:rPr>
              <a:t>ed</a:t>
            </a: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 in the park.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6" name="Title 20"/>
          <p:cNvSpPr/>
          <p:nvPr/>
        </p:nvSpPr>
        <p:spPr>
          <a:xfrm>
            <a:off x="3800520" y="2590920"/>
            <a:ext cx="4178160" cy="176364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e added ‘</a:t>
            </a:r>
            <a:r>
              <a:rPr b="1" lang="en-GB" sz="2800" spc="-1" strike="noStrike">
                <a:solidFill>
                  <a:srgbClr val="5b8231"/>
                </a:solidFill>
                <a:latin typeface="Twinkl"/>
              </a:rPr>
              <a:t>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’ to walk because Uncle Ed did this in the past!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755640" y="3448080"/>
            <a:ext cx="7640640" cy="2644920"/>
          </a:xfrm>
          <a:custGeom>
            <a:avLst/>
            <a:gdLst/>
            <a:ahLst/>
            <a:rect l="l" t="t" r="r" b="b"/>
            <a:pathLst>
              <a:path w="7641089" h="2644950">
                <a:moveTo>
                  <a:pt x="8389" y="1057013"/>
                </a:moveTo>
                <a:lnTo>
                  <a:pt x="7641089" y="0"/>
                </a:lnTo>
                <a:cubicBezTo>
                  <a:pt x="7638293" y="831316"/>
                  <a:pt x="7635496" y="1813634"/>
                  <a:pt x="7632700" y="2644950"/>
                </a:cubicBezTo>
                <a:lnTo>
                  <a:pt x="0" y="2644950"/>
                </a:lnTo>
                <a:cubicBezTo>
                  <a:pt x="2796" y="2093267"/>
                  <a:pt x="5593" y="1608696"/>
                  <a:pt x="8389" y="1057013"/>
                </a:cubicBezTo>
                <a:close/>
              </a:path>
            </a:pathLst>
          </a:custGeom>
          <a:solidFill>
            <a:srgbClr val="e4f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rcRect l="0" t="0" r="0" b="16998"/>
          <a:stretch/>
        </p:blipFill>
        <p:spPr>
          <a:xfrm>
            <a:off x="428760" y="1709640"/>
            <a:ext cx="3371760" cy="469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3867120" cy="1374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712800" y="952560"/>
            <a:ext cx="4137120" cy="6955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I pour</a:t>
            </a:r>
            <a:r>
              <a:rPr b="1" lang="en-GB" sz="2800" spc="-1" strike="noStrike">
                <a:solidFill>
                  <a:srgbClr val="5b8231"/>
                </a:solidFill>
                <a:latin typeface="Twinkl SemiBold"/>
              </a:rPr>
              <a:t>ed</a:t>
            </a: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 the milk on my cereal.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Title 20"/>
          <p:cNvSpPr/>
          <p:nvPr/>
        </p:nvSpPr>
        <p:spPr>
          <a:xfrm>
            <a:off x="3800520" y="2590920"/>
            <a:ext cx="4178160" cy="176364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e added ‘</a:t>
            </a:r>
            <a:r>
              <a:rPr b="1" lang="en-GB" sz="2800" spc="-1" strike="noStrike">
                <a:solidFill>
                  <a:srgbClr val="5b8231"/>
                </a:solidFill>
                <a:latin typeface="Twinkl"/>
              </a:rPr>
              <a:t>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’ to pour because Uncle Ed did this in the past!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3"/>
          <a:srcRect l="0" t="0" r="0" b="25961"/>
          <a:stretch/>
        </p:blipFill>
        <p:spPr>
          <a:xfrm>
            <a:off x="1763640" y="4278240"/>
            <a:ext cx="35402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755640" y="3448080"/>
            <a:ext cx="7640640" cy="2644920"/>
          </a:xfrm>
          <a:custGeom>
            <a:avLst/>
            <a:gdLst/>
            <a:ahLst/>
            <a:rect l="l" t="t" r="r" b="b"/>
            <a:pathLst>
              <a:path w="7641089" h="2644950">
                <a:moveTo>
                  <a:pt x="8389" y="1057013"/>
                </a:moveTo>
                <a:lnTo>
                  <a:pt x="7641089" y="0"/>
                </a:lnTo>
                <a:cubicBezTo>
                  <a:pt x="7638293" y="831316"/>
                  <a:pt x="7635496" y="1813634"/>
                  <a:pt x="7632700" y="2644950"/>
                </a:cubicBezTo>
                <a:lnTo>
                  <a:pt x="0" y="2644950"/>
                </a:lnTo>
                <a:cubicBezTo>
                  <a:pt x="2796" y="2093267"/>
                  <a:pt x="5593" y="1608696"/>
                  <a:pt x="8389" y="1057013"/>
                </a:cubicBezTo>
                <a:close/>
              </a:path>
            </a:pathLst>
          </a:custGeom>
          <a:solidFill>
            <a:srgbClr val="e4f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rcRect l="0" t="0" r="0" b="16998"/>
          <a:stretch/>
        </p:blipFill>
        <p:spPr>
          <a:xfrm>
            <a:off x="428760" y="1709640"/>
            <a:ext cx="3371760" cy="4699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3867120" cy="1374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712800" y="952560"/>
            <a:ext cx="4137120" cy="6955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I talk</a:t>
            </a:r>
            <a:r>
              <a:rPr b="1" lang="en-GB" sz="2800" spc="-1" strike="noStrike">
                <a:solidFill>
                  <a:srgbClr val="5b8231"/>
                </a:solidFill>
                <a:latin typeface="Twinkl SemiBold"/>
              </a:rPr>
              <a:t>ed</a:t>
            </a: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 to my friend Bert.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7" name="Title 20"/>
          <p:cNvSpPr/>
          <p:nvPr/>
        </p:nvSpPr>
        <p:spPr>
          <a:xfrm>
            <a:off x="3800520" y="2590920"/>
            <a:ext cx="4178160" cy="176364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e added ‘</a:t>
            </a:r>
            <a:r>
              <a:rPr b="1" lang="en-GB" sz="2800" spc="-1" strike="noStrike">
                <a:solidFill>
                  <a:srgbClr val="5b8231"/>
                </a:solidFill>
                <a:latin typeface="Twinkl"/>
              </a:rPr>
              <a:t>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’ to talk because Uncle Ed did this in the past!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rcRect l="57434" t="0" r="0" b="27331"/>
          <a:stretch/>
        </p:blipFill>
        <p:spPr>
          <a:xfrm>
            <a:off x="2936880" y="3114720"/>
            <a:ext cx="15098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2378"/>
          <a:stretch/>
        </p:blipFill>
        <p:spPr>
          <a:xfrm>
            <a:off x="755640" y="1333440"/>
            <a:ext cx="7632720" cy="4759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2"/>
          <a:srcRect l="0" t="0" r="0" b="16998"/>
          <a:stretch/>
        </p:blipFill>
        <p:spPr>
          <a:xfrm>
            <a:off x="428760" y="1709640"/>
            <a:ext cx="3371760" cy="4699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3867120" cy="1374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712800" y="952560"/>
            <a:ext cx="4137120" cy="6955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I play</a:t>
            </a:r>
            <a:r>
              <a:rPr b="1" lang="en-GB" sz="2800" spc="-1" strike="noStrike">
                <a:solidFill>
                  <a:srgbClr val="5b8231"/>
                </a:solidFill>
                <a:latin typeface="Twinkl SemiBold"/>
              </a:rPr>
              <a:t>ed</a:t>
            </a:r>
            <a:r>
              <a:rPr b="1" lang="en-GB" sz="2800" spc="-1" strike="noStrike">
                <a:solidFill>
                  <a:srgbClr val="1c1c1c"/>
                </a:solidFill>
                <a:latin typeface="Twinkl SemiBold"/>
              </a:rPr>
              <a:t> football.</a:t>
            </a:r>
            <a:endParaRPr b="1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3" name="Title 20"/>
          <p:cNvSpPr/>
          <p:nvPr/>
        </p:nvSpPr>
        <p:spPr>
          <a:xfrm>
            <a:off x="3800520" y="2590920"/>
            <a:ext cx="4178160" cy="176364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We added ‘</a:t>
            </a:r>
            <a:r>
              <a:rPr b="1" lang="en-GB" sz="2800" spc="-1" strike="noStrike">
                <a:solidFill>
                  <a:srgbClr val="5b8231"/>
                </a:solidFill>
                <a:latin typeface="Twinkl"/>
              </a:rPr>
              <a:t>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’ to play because Uncle Ed did this in the past!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4"/>
          <a:stretch/>
        </p:blipFill>
        <p:spPr>
          <a:xfrm>
            <a:off x="3000240" y="5151600"/>
            <a:ext cx="800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: Rounded Corners 5"/>
          <p:cNvSpPr/>
          <p:nvPr/>
        </p:nvSpPr>
        <p:spPr>
          <a:xfrm>
            <a:off x="755640" y="1376280"/>
            <a:ext cx="7632720" cy="1138320"/>
          </a:xfrm>
          <a:prstGeom prst="roundRect">
            <a:avLst>
              <a:gd name="adj" fmla="val 16667"/>
            </a:avLst>
          </a:prstGeom>
          <a:solidFill>
            <a:srgbClr val="d3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rcRect l="0" t="0" r="0" b="20673"/>
          <a:stretch/>
        </p:blipFill>
        <p:spPr>
          <a:xfrm>
            <a:off x="6156360" y="2538360"/>
            <a:ext cx="2898720" cy="3861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 SemiBold"/>
              </a:rPr>
              <a:t>Now it’s your turn!</a:t>
            </a:r>
            <a:endParaRPr b="1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55640" y="14731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Add ‘</a:t>
            </a:r>
            <a:r>
              <a:rPr b="1" lang="en-GB" sz="2800" spc="-1" strike="noStrike">
                <a:solidFill>
                  <a:srgbClr val="5b8231"/>
                </a:solidFill>
                <a:latin typeface="Twinkl"/>
              </a:rPr>
              <a:t>ed</a:t>
            </a: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’ to the end of these verbs to show that Uncle Ed did them in the past!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9" name="Title 20"/>
          <p:cNvSpPr/>
          <p:nvPr/>
        </p:nvSpPr>
        <p:spPr>
          <a:xfrm>
            <a:off x="755640" y="2874960"/>
            <a:ext cx="169380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jump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0" name="Title 20"/>
          <p:cNvSpPr/>
          <p:nvPr/>
        </p:nvSpPr>
        <p:spPr>
          <a:xfrm>
            <a:off x="2744640" y="2874960"/>
            <a:ext cx="169416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climb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1" name="Title 20"/>
          <p:cNvSpPr/>
          <p:nvPr/>
        </p:nvSpPr>
        <p:spPr>
          <a:xfrm>
            <a:off x="4735440" y="2874960"/>
            <a:ext cx="169380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finish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2" name="Title 20"/>
          <p:cNvSpPr/>
          <p:nvPr/>
        </p:nvSpPr>
        <p:spPr>
          <a:xfrm>
            <a:off x="755640" y="3821040"/>
            <a:ext cx="169380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play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3" name="Title 20"/>
          <p:cNvSpPr/>
          <p:nvPr/>
        </p:nvSpPr>
        <p:spPr>
          <a:xfrm>
            <a:off x="2744640" y="3821040"/>
            <a:ext cx="169416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fold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4" name="Title 20"/>
          <p:cNvSpPr/>
          <p:nvPr/>
        </p:nvSpPr>
        <p:spPr>
          <a:xfrm>
            <a:off x="4735440" y="3821040"/>
            <a:ext cx="1693800" cy="690480"/>
          </a:xfrm>
          <a:prstGeom prst="roundRect">
            <a:avLst>
              <a:gd name="adj" fmla="val 9639"/>
            </a:avLst>
          </a:prstGeom>
          <a:solidFill>
            <a:srgbClr val="c9e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Twinkl"/>
              </a:rPr>
              <a:t>open</a:t>
            </a:r>
            <a:endParaRPr b="0" lang="en-US" sz="32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755640" y="484344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</a:rPr>
              <a:t>Can you write a sentence to go with each one?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08:49:32Z</dcterms:created>
  <dc:creator>Twinkl</dc:creator>
  <dc:description/>
  <dc:language>en-US</dc:language>
  <cp:lastModifiedBy>Twinkl</cp:lastModifiedBy>
  <dcterms:modified xsi:type="dcterms:W3CDTF">2017-01-26T09:46:37Z</dcterms:modified>
  <cp:revision>8</cp:revision>
  <dc:subject/>
  <dc:title>PowerPoint Presentation</dc:title>
</cp:coreProperties>
</file>